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942-589E-47FF-BED4-6919ED9F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D0C-46A0-4572-A94B-C02214D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6C4-45AA-401E-99C1-E4ADA16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680-4D28-4C56-8742-246F397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F7F-AD48-4248-BC04-68BF86C8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44A-2B2F-43CB-A079-4BB02EC7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2C3-6F0F-4186-B9DA-B51B252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D30-7A62-4988-AEDB-EE3FCAA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78C-5C03-4ED6-A56F-7D15D60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D92-922A-4D65-AD83-E4B5E67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318-536C-4DB7-B948-2B07DD6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ECA-EB99-4489-BEF3-873D6D9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DE8-E381-4EDD-9848-DD39F9C8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8628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6705360" cy="3076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27432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9608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69343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1532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629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6240" cy="171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6553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33960" cy="5562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22860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124080"/>
            <a:ext cx="1828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0292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3:54:45Z</dcterms:created>
  <dc:creator>grahams</dc:creator>
  <dc:description/>
  <dc:language>en-US</dc:language>
  <cp:lastModifiedBy>grahams</cp:lastModifiedBy>
  <dcterms:modified xsi:type="dcterms:W3CDTF">2012-03-20T13:54:50Z</dcterms:modified>
  <cp:revision>1</cp:revision>
  <dc:subject/>
  <dc:title>Slide 1</dc:title>
</cp:coreProperties>
</file>